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F08-6341-4BA7-AD76-BF76A225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3E8-0C5B-4E72-97BC-4AF1F223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233-1983-4ED1-8F4D-F2C6B0E3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11B-06A3-4458-AAAF-D9D009B2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0D93-1162-485E-8D01-5F366A4F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4CA6-DD62-48BA-9D7F-42688BF0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D541-B7F3-4967-9B3E-43EE3421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E78C-AB07-43F1-9912-B8D08247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7DE0-D389-41EF-8B26-73A335C1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C88C-4958-46D4-97EE-1D5B0BBD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4DD3-0FF9-4FB5-8B28-9231F373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109-BC5D-420E-935F-F5F12283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724E-ED0D-438C-B256-17DF1CB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C34E-1D82-4203-A88F-BAD07573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30CD-5A8C-42F7-93FE-05B4A7E4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5AF2-6FE5-4859-B370-46603E2B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8B19-3E34-4FDD-9546-94CE6894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9DB-F441-4368-AA4A-0AC9152D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41C-F5B4-4278-AD49-6E9A3D18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954-523E-47C9-96E5-C7C564B6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417-936B-4CD6-8ABA-0AE23805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0A6-D5B7-445F-9EF0-6453F006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C35-297D-4C0F-996D-2270836B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ACB-BB05-4ACE-87D3-509F9F9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517D-9A28-4A08-BF55-A1CE3BBE7B30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67F5-79E1-4F88-A639-26A93D93B78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LE PROSTOKĄ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JEDNOSTKI P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000" y="1193400"/>
            <a:ext cx="80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Dany jest prostokąt o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3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szerok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2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 Ile kwadratów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o boku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zmieści się w tym prostoką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455292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pokrycie prostokąta o bokac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trzebnych był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 kwadratów jednostkowy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132000" y="2327400"/>
          <a:ext cx="2765520" cy="18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327400"/>
                    <a:ext cx="27655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132000" y="2338560"/>
          <a:ext cx="2216160" cy="149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338560"/>
                    <a:ext cx="2216160" cy="14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000" y="953640"/>
            <a:ext cx="80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Dany jest prostokąt o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szerok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 Ile kwadratów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o boku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zmieści się w tym prostoką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575496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pokrycie prostokąta o bokac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trzebnych był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 kwadratów jednostkowy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097000" y="1673280"/>
          <a:ext cx="498312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1673280"/>
                    <a:ext cx="498312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097000" y="1663560"/>
          <a:ext cx="4375080" cy="365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7000" y="1663560"/>
                    <a:ext cx="437508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2000" y="1057680"/>
            <a:ext cx="80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e kwadratu o boku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zyjmujemy za jednostkę po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 nazywamy j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ntymetrem kwadratowy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 zapisujemy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81280" y="1989000"/>
          <a:ext cx="137160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989000"/>
                    <a:ext cx="13716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40520" y="3312000"/>
            <a:ext cx="79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nios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le prostokąta obliczamy mnożąc długości sąsiednich boków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69840" y="4347000"/>
            <a:ext cx="71852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e oznaczamy przez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tem pole prostokąta o długości boków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rów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 = 6 cm · 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 = 30 cm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L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22680" y="1267560"/>
            <a:ext cx="71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iczamy pole prostokąta o długości boku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długości boku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322360" y="2124000"/>
          <a:ext cx="462312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2360" y="2124000"/>
                    <a:ext cx="46231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3492360" y="5184720"/>
            <a:ext cx="2070360" cy="719280"/>
            <a:chOff x="3492360" y="5184720"/>
            <a:chExt cx="2070360" cy="719280"/>
          </a:xfrm>
        </p:grpSpPr>
        <p:sp>
          <p:nvSpPr>
            <p:cNvPr id="127" name=""/>
            <p:cNvSpPr/>
            <p:nvPr/>
          </p:nvSpPr>
          <p:spPr>
            <a:xfrm>
              <a:off x="3718080" y="524448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 = a ·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184720"/>
              <a:ext cx="2070360" cy="719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5920" y="126756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icz pola prostokątów przedstawionych na rysun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11280" y="1989000"/>
          <a:ext cx="2355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989000"/>
                    <a:ext cx="2355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472000" y="1989000"/>
          <a:ext cx="235908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2000" y="1989000"/>
                    <a:ext cx="2359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EDNOSTKI P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4560" y="1090800"/>
            <a:ext cx="79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m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mili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centy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d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decy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k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kilo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418248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ednostkami pola są również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hektar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do wyrażania większych obszarów, np.: pola uprawne, działki, duże place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3440" y="5273280"/>
            <a:ext cx="62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en 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kwadrat o boku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en hekt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kwadrat o boku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0920" y="126936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zupełnij tabelk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57360" y="2214720"/>
          <a:ext cx="5753160" cy="2857320"/>
        </p:xfrm>
        <a:graphic>
          <a:graphicData uri="http://schemas.openxmlformats.org/drawingml/2006/table">
            <a:tbl>
              <a:tblPr/>
              <a:tblGrid>
                <a:gridCol w="1438200"/>
                <a:gridCol w="1438200"/>
                <a:gridCol w="1438560"/>
                <a:gridCol w="1438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Długość prostoką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Szerokość prostoką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Obwó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P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1:07Z</dcterms:modified>
  <cp:revision>66</cp:revision>
  <dc:subject/>
  <dc:title>Slajd 1</dc:title>
</cp:coreProperties>
</file>